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356-D78A-4925-9102-6B9E1BC9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F04-E47F-4518-9A14-33959F7A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FD0-0CAA-417A-B952-C0001C5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37D-9729-4B2D-92A1-0534D810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9D4-6F14-4BBF-9BD9-5E15E851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4E5E-B5FB-4B8E-9C61-56515BB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A493-44EC-4211-A1AA-FFF84BC2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AD75-D56E-4F71-858C-6ABD90AE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F598-E083-4EA7-B0B0-2EE3AA5F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0BE1-5FEB-4AFE-8691-2F10D023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F923-5A4C-4A33-96C7-8612E1CD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F96-F769-4C62-A422-0F0A0FF4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CB16-1251-4752-9FB1-12B445E2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65D1-2410-4B6D-ABC3-30D8033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4C0D-5A3F-4ABA-819B-A28672C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C70E-751F-4938-BFAC-B3A4FD3E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2234-9834-4FB7-982A-049966BA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B76-300A-4401-B4F1-236211CD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7E8-448F-45E4-9BC3-E40B83F9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216-86DF-41DA-9222-E75848A1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947-5F35-4607-BB2A-28E1DB8D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884-5947-4876-93E4-29A558C2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5D2-04F7-4B37-94E9-37F622E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486-6F2E-41F9-A194-C8D60A4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3CE-DA85-4051-98E7-8D90240021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8482-929E-47DE-98F0-F89FDA59FB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://www.ehow.com/angry-children/" TargetMode="External"/><Relationship Id="rId4" Type="http://schemas.openxmlformats.org/officeDocument/2006/relationships/hyperlink" Target="http://www.ehow.com/angry-children/" TargetMode="External"/><Relationship Id="rId5" Type="http://schemas.openxmlformats.org/officeDocument/2006/relationships/hyperlink" Target="http://www.ehow.com/angry-children/" TargetMode="External"/><Relationship Id="rId6" Type="http://schemas.openxmlformats.org/officeDocument/2006/relationships/hyperlink" Target="http://www.ehow.com/angry-children/" TargetMode="External"/><Relationship Id="rId7" Type="http://schemas.openxmlformats.org/officeDocument/2006/relationships/hyperlink" Target="http://www.ehow.com/angry-children/" TargetMode="External"/><Relationship Id="rId8" Type="http://schemas.openxmlformats.org/officeDocument/2006/relationships/hyperlink" Target="http://www.ehow.com/angry-children/" TargetMode="Externa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hyperlink" Target="http://primetime.unrealitytv.co.uk/categories/childrens-tv/page/2/ora%206.30.%203%20dec%202010" TargetMode="External"/><Relationship Id="rId4" Type="http://schemas.openxmlformats.org/officeDocument/2006/relationships/hyperlink" Target="http://primetime.unrealitytv.co.uk/categories/childrens-tv/page/2/ora%206.30.%203%20dec%202010" TargetMode="External"/><Relationship Id="rId5" Type="http://schemas.openxmlformats.org/officeDocument/2006/relationships/hyperlink" Target="http://primetime.unrealitytv.co.uk/categories/childrens-tv/page/2/ora%206.30.%203%20dec%202010" TargetMode="External"/><Relationship Id="rId6" Type="http://schemas.openxmlformats.org/officeDocument/2006/relationships/hyperlink" Target="http://primetime.unrealitytv.co.uk/categories/childrens-tv/page/2/ora%206.30.%203%20dec%202010" TargetMode="External"/><Relationship Id="rId7" Type="http://schemas.openxmlformats.org/officeDocument/2006/relationships/hyperlink" Target="http://primetime.unrealitytv.co.uk/categories/childrens-tv/page/2/ora%206.30.%203%20dec%202010" TargetMode="External"/><Relationship Id="rId8" Type="http://schemas.openxmlformats.org/officeDocument/2006/relationships/hyperlink" Target="http://primetime.unrealitytv.co.uk/categories/childrens-tv/page/2/ora%206.30.%203%20dec%202010" TargetMode="External"/><Relationship Id="rId9" Type="http://schemas.openxmlformats.org/officeDocument/2006/relationships/hyperlink" Target="http://primetime.unrealitytv.co.uk/categories/childrens-tv/page/2/ora%206.30.%203%20dec%202010" TargetMode="External"/><Relationship Id="rId10" Type="http://schemas.openxmlformats.org/officeDocument/2006/relationships/hyperlink" Target="http://primetime.unrealitytv.co.uk/categories/childrens-tv/page/2/ora%206.30.%203%20dec%202010" TargetMode="Externa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-67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EVALUARE                    INITIAL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239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ata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vesel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peri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păr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ruşin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2421141141" descr="Go to fullsize image"/>
          <p:cNvPicPr/>
          <p:nvPr/>
        </p:nvPicPr>
        <p:blipFill>
          <a:blip r:embed="rId1"/>
          <a:stretch/>
        </p:blipFill>
        <p:spPr>
          <a:xfrm>
            <a:off x="1116000" y="2205000"/>
            <a:ext cx="2529000" cy="316872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tiţa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rici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ruşin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urioas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671640" cy="367200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373840" y="6218280"/>
            <a:ext cx="4372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:/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www.ehow.com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angry-children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I INCEARCA!!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705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Doamna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rici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îndrăgosti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rprinsă/ mir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blend of fear expression with surprise expression"/>
          <p:cNvPicPr/>
          <p:nvPr/>
        </p:nvPicPr>
        <p:blipFill>
          <a:blip r:embed="rId1"/>
          <a:stretch/>
        </p:blipFill>
        <p:spPr>
          <a:xfrm>
            <a:off x="900000" y="2276640"/>
            <a:ext cx="3111480" cy="360036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Băieţelul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bucur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uri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păr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0920" y="5768280"/>
            <a:ext cx="873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:/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primetime.unrealitytv.co.uk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categories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/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childrens-tv</a:t>
            </a:r>
            <a:r>
              <a:rPr b="0" lang="ro-RO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/page/2/ora 6.30. 3 dec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Tânărul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bucur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tri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rusin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peri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partial fear expression "/>
          <p:cNvPicPr/>
          <p:nvPr/>
        </p:nvPicPr>
        <p:blipFill>
          <a:blip r:embed="rId1"/>
          <a:stretch/>
        </p:blipFill>
        <p:spPr>
          <a:xfrm>
            <a:off x="971640" y="2133720"/>
            <a:ext cx="3051000" cy="352728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meia est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vesel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înfricoş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urioas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3548817315" descr="Go to fullsize image"/>
          <p:cNvPicPr/>
          <p:nvPr/>
        </p:nvPicPr>
        <p:blipFill>
          <a:blip r:embed="rId1"/>
          <a:stretch/>
        </p:blipFill>
        <p:spPr>
          <a:xfrm>
            <a:off x="826920" y="2133720"/>
            <a:ext cx="3203640" cy="36716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ro-RO" sz="7200" spc="-1" strike="noStrike">
                <a:solidFill>
                  <a:srgbClr val="ffffcc"/>
                </a:solidFill>
                <a:latin typeface="Comic Sans MS"/>
              </a:rPr>
              <a:t>FELICITĂRI!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I INCEARCA!!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Tânăra  este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păr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vesel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periat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îndrăgostită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3548817315" descr="Go to fullsize image"/>
          <p:cNvPicPr/>
          <p:nvPr/>
        </p:nvPicPr>
        <p:blipFill>
          <a:blip r:embed="rId1"/>
          <a:stretch/>
        </p:blipFill>
        <p:spPr>
          <a:xfrm>
            <a:off x="900000" y="2276640"/>
            <a:ext cx="2727360" cy="312732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Alege emotia care crezi c</a:t>
            </a:r>
            <a:r>
              <a:rPr b="0" lang="ro-RO" sz="4000" spc="-1" strike="noStrike">
                <a:solidFill>
                  <a:srgbClr val="ffffcc"/>
                </a:solidFill>
                <a:latin typeface="Comic Sans MS"/>
              </a:rPr>
              <a:t>ă se potriveşte imaginii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16000" y="21337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Tinerii sunt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supăraţ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fericiţ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Tahoma"/>
              </a:rPr>
              <a:t>îndrăgostiţ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Go to fullsize image"/>
          <p:cNvPicPr/>
          <p:nvPr/>
        </p:nvPicPr>
        <p:blipFill>
          <a:blip r:embed="rId1"/>
          <a:stretch/>
        </p:blipFill>
        <p:spPr>
          <a:xfrm>
            <a:off x="179280" y="2492280"/>
            <a:ext cx="4248360" cy="254952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392720" cy="2921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google.ro/imgres?imgurl=http://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www.chicagonow.com/blogs/portr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VO!!!!!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73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Fetiţa din imagine est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. supărat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. fericit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. furioas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341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537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google.ro/imgres?imgurl=http://christians-picturesque-photography.ca/im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48:33Z</dcterms:created>
  <dc:creator>Carmen</dc:creator>
  <dc:description/>
  <dc:language>en-US</dc:language>
  <cp:lastModifiedBy>curs</cp:lastModifiedBy>
  <dcterms:modified xsi:type="dcterms:W3CDTF">2010-12-03T17:54:05Z</dcterms:modified>
  <cp:revision>6</cp:revision>
  <dc:subject/>
  <dc:title>EVALUARE                    INITIALA</dc:title>
</cp:coreProperties>
</file>